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3C3-EB41-434C-AD24-EE3AA6CB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2E0-FFE6-48D8-BA2D-96F36E6D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A13-FD36-4422-A35E-7159A81C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AAC-D52D-4389-9400-0FFA3F32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388-CAD1-43A2-8C36-B9CCB49E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85F-4B19-4064-ABEB-D319CC4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E89-87F4-495B-ADF5-4952C7AD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CF3-293C-4840-A726-696237DE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A01-DEB6-4FE5-9A53-0F0EDFD7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8E4-F38F-4803-B062-AFC0F2B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9F2-8604-4AA7-B49C-0A798B8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FBD-7B12-4DB3-B5D9-59D710A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3AF-8437-446A-A3BF-BDC0F3B9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st.explorelearning.com/ESClassic/interact.htm" TargetMode="External"/><Relationship Id="rId2" Type="http://schemas.openxmlformats.org/officeDocument/2006/relationships/hyperlink" Target="http://www.walter-fendt.de/ph11e/collision.htm" TargetMode="External"/><Relationship Id="rId3" Type="http://schemas.openxmlformats.org/officeDocument/2006/relationships/hyperlink" Target="http://www.physicsclassroom.com/mmedia/momentum/momentumTOC.html" TargetMode="External"/><Relationship Id="rId4" Type="http://schemas.openxmlformats.org/officeDocument/2006/relationships/hyperlink" Target="http://galileo.phys.virginia.edu/classes/109N/more_stuff/Applets/Collision/jarapplet.html" TargetMode="External"/><Relationship Id="rId5" Type="http://schemas.openxmlformats.org/officeDocument/2006/relationships/hyperlink" Target="http://host.explorelearning.com/ESClassic/2dcollis.htm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04920" y="685800"/>
          <a:ext cx="760392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603920" cy="5065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6320" dir="0" blurRad="0" rotWithShape="0">
                      <a:srgbClr val="99ff3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96920" y="152280"/>
            <a:ext cx="3992400" cy="144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6865920" y="4067280"/>
            <a:ext cx="2049480" cy="271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324000" y="5181480"/>
            <a:ext cx="2400120" cy="146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7543800" y="210960"/>
            <a:ext cx="145404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04920"/>
            <a:ext cx="9142560" cy="2133360"/>
          </a:xfrm>
          <a:prstGeom prst="rect">
            <a:avLst/>
          </a:prstGeom>
          <a:gradFill rotWithShape="0">
            <a:gsLst>
              <a:gs pos="0">
                <a:srgbClr val="008e6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54760" y="455760"/>
            <a:ext cx="7893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0" y="1274760"/>
            <a:ext cx="9231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“</a:t>
            </a: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Energy can be neither created nor destroy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It may only change forms.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440" y="2970360"/>
            <a:ext cx="9141120" cy="118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ypes of energy before the 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ll types of energy after the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2280" y="4716360"/>
            <a:ext cx="8699400" cy="191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dropped object loses gravitational PE as it gains K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block slides across the floor and comes to a sto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compressed spring shoots a ball into the a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187440" y="90360"/>
            <a:ext cx="2897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Serpentine"/>
              </a:rPr>
              <a:t>Colli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87440" y="990720"/>
            <a:ext cx="8229600" cy="2590560"/>
          </a:xfrm>
          <a:prstGeom prst="octagon">
            <a:avLst>
              <a:gd name="adj" fmla="val 251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754080" y="1065240"/>
            <a:ext cx="153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a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43640" y="1646280"/>
            <a:ext cx="717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oth momentum and KE are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71600" y="2284560"/>
            <a:ext cx="82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 before collision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E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8680" y="2817720"/>
            <a:ext cx="750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 before collision =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p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487440" y="3962520"/>
            <a:ext cx="8229600" cy="2590560"/>
          </a:xfrm>
          <a:prstGeom prst="octagon">
            <a:avLst>
              <a:gd name="adj" fmla="val 25194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619800" y="4113360"/>
            <a:ext cx="197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ela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531720" y="4694400"/>
            <a:ext cx="816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ly momentum is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KE is changed to other forms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898560" y="5789520"/>
            <a:ext cx="750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 before collision = 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p afte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-152280" y="533520"/>
            <a:ext cx="94849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elastic and inelastic collisions in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two dimensions at these simulation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the conserv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ergy at these simulation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nk1, link2, link3, link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coaster"/>
          <p:cNvPicPr/>
          <p:nvPr/>
        </p:nvPicPr>
        <p:blipFill>
          <a:blip r:embed="rId6"/>
          <a:stretch/>
        </p:blipFill>
        <p:spPr>
          <a:xfrm>
            <a:off x="2438280" y="4572000"/>
            <a:ext cx="439128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560" y="353880"/>
            <a:ext cx="9091440" cy="2082960"/>
          </a:xfrm>
          <a:prstGeom prst="hexagon">
            <a:avLst>
              <a:gd name="adj" fmla="val 44718"/>
              <a:gd name="vf" fmla="val 115470"/>
            </a:avLst>
          </a:prstGeom>
          <a:solidFill>
            <a:srgbClr val="cc00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4200" y="485640"/>
            <a:ext cx="8556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force is needed to quickly stop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ball thrown at 95 mph than to quickly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baseball thrown at 45 mph,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both have the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ame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11360" y="2768760"/>
            <a:ext cx="7721280" cy="200628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44480" y="2847960"/>
            <a:ext cx="7678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force is needed to quickly stop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ing at 45 mph than to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op A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a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ing at 45 mph,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both have the </a:t>
            </a:r>
            <a:r>
              <a:rPr b="0" lang="en-US" sz="2800" spc="-1" strike="noStrike">
                <a:solidFill>
                  <a:srgbClr val="66ff33"/>
                </a:solidFill>
                <a:latin typeface="Arial Black"/>
              </a:rPr>
              <a:t>same spe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66320" y="5075280"/>
            <a:ext cx="87879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oth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mas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ffff00"/>
                </a:solidFill>
                <a:latin typeface="Minnie"/>
                <a:ea typeface="Minnie"/>
              </a:rPr>
              <a:t>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ctors when considering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eded to change the motion of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52280" y="325440"/>
          <a:ext cx="511812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5440"/>
                    <a:ext cx="5118120" cy="1652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3333c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5359320" y="406440"/>
            <a:ext cx="3683160" cy="15494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263920" y="426960"/>
            <a:ext cx="3803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oduc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ss and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951120" y="2468520"/>
            <a:ext cx="7303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momemtu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mas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x </a:t>
            </a: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velo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171880" y="3543480"/>
            <a:ext cx="4952880" cy="1295280"/>
          </a:xfrm>
          <a:prstGeom prst="rect">
            <a:avLst/>
          </a:pr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97160" y="3352680"/>
            <a:ext cx="4740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Serpentine"/>
              </a:rPr>
              <a:t>p = mv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5280" y="5051520"/>
            <a:ext cx="875772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p = momentum; has units of mass x veloc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 = mass; usually measured in k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v = velocity; usually measured in m/s or km/h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 flipV="1">
            <a:off x="1015920" y="24480"/>
            <a:ext cx="6959520" cy="1244520"/>
          </a:xfrm>
          <a:custGeom>
            <a:avLst/>
            <a:gdLst>
              <a:gd name="textAreaLeft" fmla="*/ 1107000 w 6959520"/>
              <a:gd name="textAreaRight" fmla="*/ 5852520 w 6959520"/>
              <a:gd name="textAreaTop" fmla="*/ 198000 h 1244520"/>
              <a:gd name="textAreaBottom" fmla="*/ 1046520 h 12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71" y="21600"/>
                </a:lnTo>
                <a:lnTo>
                  <a:pt x="1832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990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60680" y="74520"/>
            <a:ext cx="595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omentum is a vect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 direction is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1446120"/>
            <a:ext cx="8201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object’s momentum will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its </a:t>
            </a: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mass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/or 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speed and direction) chan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8160" y="3467160"/>
            <a:ext cx="9066240" cy="1676520"/>
          </a:xfrm>
          <a:prstGeom prst="hexagon">
            <a:avLst>
              <a:gd name="adj" fmla="val 60812"/>
              <a:gd name="vf" fmla="val 115470"/>
            </a:avLst>
          </a:prstGeom>
          <a:solidFill>
            <a:srgbClr val="3333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73240" y="3551400"/>
            <a:ext cx="8690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ccording to Newton’s law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net fo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auses an object to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ccele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ts veloc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20680" y="5364000"/>
            <a:ext cx="8778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net force, therefore, cause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in an object’s moment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76240" y="3238560"/>
            <a:ext cx="7620120" cy="121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21560" y="30240"/>
            <a:ext cx="2644920" cy="10069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F = 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629520" y="304920"/>
            <a:ext cx="456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(Newton’s Second 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072080" y="1325520"/>
            <a:ext cx="1567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"/>
          <p:cNvSpPr/>
          <p:nvPr/>
        </p:nvSpPr>
        <p:spPr>
          <a:xfrm>
            <a:off x="101520" y="4978440"/>
            <a:ext cx="8939160" cy="116820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2666880" y="1905120"/>
            <a:ext cx="106704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321720" y="944640"/>
            <a:ext cx="61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2768760" y="12952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284472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008240" y="132552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4876920" y="1905120"/>
            <a:ext cx="152388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4666680" y="944640"/>
            <a:ext cx="1962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m   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5511960" y="12952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528336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6522840" y="132552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7315200" y="1905120"/>
            <a:ext cx="1066680" cy="0"/>
          </a:xfrm>
          <a:prstGeom prst="line">
            <a:avLst/>
          </a:prstGeom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7778880" y="944640"/>
            <a:ext cx="668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gal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7264440" y="12700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7264440" y="2184480"/>
            <a:ext cx="558720" cy="4064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1100160" y="3276720"/>
            <a:ext cx="15292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F   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1598760" y="3683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3017880" y="335268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903120" y="3276720"/>
            <a:ext cx="196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m   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4757760" y="3656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6065640" y="3352680"/>
            <a:ext cx="62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ugal San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959520" y="3656160"/>
            <a:ext cx="558720" cy="4060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7500960" y="3260880"/>
            <a:ext cx="668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rugal San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3160" y="5241960"/>
            <a:ext cx="840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mpulse = change in 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144360" y="114480"/>
            <a:ext cx="8837640" cy="2514600"/>
          </a:xfrm>
          <a:prstGeom prst="hexagon">
            <a:avLst>
              <a:gd name="adj" fmla="val 21592"/>
              <a:gd name="vf" fmla="val 11547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359160" y="0"/>
            <a:ext cx="250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Impu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2000" y="716040"/>
            <a:ext cx="9044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oduct of the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average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ime interva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uring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force is exer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480" y="3435480"/>
            <a:ext cx="9129600" cy="2197080"/>
          </a:xfrm>
          <a:prstGeom prst="octagon">
            <a:avLst>
              <a:gd name="adj" fmla="val 24394"/>
            </a:avLst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-50040" y="3611520"/>
            <a:ext cx="9303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 impulse, imparted to an objec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auses it to change its moment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usually means a change in velo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28600" y="-27000"/>
            <a:ext cx="8763120" cy="6904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020040" y="1036800"/>
            <a:ext cx="57553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greatest chang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elocity will occur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impulse is the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921040" y="3094200"/>
            <a:ext cx="56304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y increasing th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f force and the amou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ime the force is appli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he greatest chang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elocity can be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480" y="82440"/>
            <a:ext cx="9129600" cy="1511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6440" y="3560760"/>
            <a:ext cx="8902800" cy="977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8600" y="46080"/>
            <a:ext cx="9056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1000 kg car moving at 30 m/s (p = 30,000 kg m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stopp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,000 N of 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1.0 s (a crash!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83408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83960" y="3511440"/>
            <a:ext cx="8817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3000 N of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10.0 s (normal st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900000" cy="199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684440" y="4572000"/>
            <a:ext cx="2616120" cy="228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833400" y="0"/>
          <a:ext cx="754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0"/>
                    <a:ext cx="7547040" cy="129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1" name="Rectangle 3"/>
          <p:cNvSpPr/>
          <p:nvPr/>
        </p:nvSpPr>
        <p:spPr>
          <a:xfrm>
            <a:off x="635040" y="1320840"/>
            <a:ext cx="7873920" cy="1244520"/>
          </a:xfrm>
          <a:prstGeom prst="rect">
            <a:avLst/>
          </a:prstGeom>
          <a:solidFill>
            <a:srgbClr val="0000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68440" y="1325520"/>
            <a:ext cx="8128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momentum of any clos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solated system does not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480" y="3054240"/>
            <a:ext cx="9129600" cy="3568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19880" y="3046320"/>
            <a:ext cx="89024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omentum before an event,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equal to the momentum after the event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8920" y="4137120"/>
            <a:ext cx="8983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5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p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… =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velocity before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velocity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23:26Z</cp:lastPrinted>
  <dcterms:modified xsi:type="dcterms:W3CDTF">2012-03-22T16:27:56Z</dcterms:modified>
  <cp:revision>30</cp:revision>
  <dc:subject/>
  <dc:title>No Slide Title</dc:title>
</cp:coreProperties>
</file>